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87C-9A0B-4C30-B822-CBF6F8D7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52B-1CE4-4EEC-A49F-E30A8F27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75EB3-E903-4DB7-A270-954201A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2F83F-A990-4E83-914A-282DECF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9A8EA-56EB-4326-AB3E-02A0D2C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47CFD-8A27-47B9-BAC2-5912B7F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4E342-821C-44A6-856F-204E4522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4A6A-8A65-4FDF-85E8-BC4B56E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4D59-7FED-4657-8A7F-1DD61524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0B431-BA4F-4077-83B4-E3BD531B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FC9DC-BB38-4DE7-A6BB-DC1A51A1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D62AD-D9B8-43A9-8449-CF77EB11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671-2A44-4857-A097-DD842752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7ADA-F023-4C94-A813-2EBF28DE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0667-3E60-45F3-AF59-CD55051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A89DB-2EE3-4B09-B121-C043021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371C-5ABC-40C0-A3CE-B11A334F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C80F3-AAE3-408D-B726-23EDEC4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D8F06-745F-483B-A227-5732FE60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D7616-6CAD-4A08-91A3-7F4A0CB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BA486-FBA8-4132-AC12-73481B3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E69FA-AD10-4804-9345-A86CC3A0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DFCCC-215F-4376-9F8B-D8FB9290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A68-D242-48D2-9572-172556E8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54930-E24A-4F32-977C-9769D959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63FF-6771-4F87-ABFD-F43FEAD3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3DEF2-F002-4F88-BB70-CF5D94B1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D5E31-9C9D-45D3-8F0D-20DC1E74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8F19E-2A0F-488D-A91F-C1C56E45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27751-F713-451C-A1B0-A5B0A0B7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B880F-A861-493A-8A43-2C17BEC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4B951-7A08-41C9-86BF-EF756B2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9A12F-3A7E-48BD-AAF1-106027F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F6312-108B-4CDC-9ADC-CD99A9B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F1B-CDCD-48CE-AF5A-80311318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CFA5A-BEA3-4AF3-9450-7D39757B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3009-12E6-4E99-AC5B-C73FEDD0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2BE9-788D-4B18-9454-5BB7535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407DF-48DB-4C91-BD77-A1D50344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70CAF-0932-4856-BDB0-7B35F37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AC8FB-2D30-4FD2-81D3-74618B43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C52E9-B57C-44BC-A255-2A64C77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C3EDF-0B39-4069-810C-1A08B08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3ECC6-502E-48BA-AAF5-10A23E9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AA37-5F96-4F35-8934-68443E2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20D-4F68-436A-9F69-2FFE036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5D0BA-0C9F-46D5-92F8-536E477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15D3F-D9D9-49F2-8E01-2C14FA4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702D6-A3A3-4A7F-8499-03914D75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D0FF2-3008-4636-9661-B536C763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01E9E-F8B2-4D5A-9702-30E01B05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9826B-0949-48E4-8EC0-4814AAD4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308AB-2121-4F6B-A058-81F6378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4555B-9246-4086-948A-DF27562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2D074-286D-4288-B921-A23BF37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CB830-6636-45E6-AB73-E673BAF7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D831-733E-4773-8EF9-5F65052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8746D-A635-40FE-8858-03F94426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250E5-42F7-4873-8984-FACDEB9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19D7A-D962-476C-ADCD-6A66F19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E2699-FB18-4F9F-98A9-1A5AF7DC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7EC23-62C2-4D68-A17D-D11CABEC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8CC50-8E89-4C8B-B382-62E7AAF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80BDC-07AB-4D9D-AC72-2FF10C78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0302A-2B2D-4170-A901-1B5D3C05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4BD6D-71B4-4FD8-BA68-DE523B8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263C3-ABFF-46BC-AC84-37E9278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2EBF-6CE5-4E7E-A9F9-D10BAA38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3D5D4-A86A-4DA0-8774-F0556B5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B0F86-D06D-4ABC-B3E9-72BA98DC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3E5F7-638E-4284-A560-7259613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B01F4-9E09-41C9-8446-58F63DA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1C2D1-131E-491E-8066-1A8A009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00165-7153-46B3-A386-86AD966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56EEC-4230-4361-96F5-39FE00E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70A07-A8B6-4F55-9A7E-CE3ECA0E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8DC93-295A-437A-A2FA-5B71A8A8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E79D1-7E5B-47A3-95E3-D66386C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D70A-8D09-4D47-870F-AD3A2E8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E4AD6-C552-4D3B-BE9A-D0CD04A3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98B1D-CC21-4651-9E52-BD7CE93A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E6FD8-3EFD-4B4C-B632-E18A3A8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D3142-D466-4E3E-90A1-93E3D91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8C626-00F3-436D-B127-DC94043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0B054-EBDF-4D00-9288-E9E1A2A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861E7-64D4-496C-B936-0369124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29FA9-3015-4853-BB0D-843AC31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6023A-030D-44BA-80DA-DE6C741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ECA88-6D16-44BD-A017-68AD66BB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F2A-5A0A-4B0B-B607-B3A1E73F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79673-B203-4AB1-BBAF-1363B669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2F4C5-529B-483D-BCDA-EDD3976F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61C7F-07D2-4346-9EC6-938977CC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7A2AF-40F0-469F-9BF8-3A9B1EA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E3C07-365C-40D3-8AA2-C1424745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E3E02-7485-44F3-877F-764F2C7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D0913-78F5-49FA-93D9-73AC312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6D4BC-E937-4EE9-B591-46AA3DF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19626-A584-4198-867E-ECC1791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CB180-1A0E-405E-B0D1-1E3A7BE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CA9F-96FE-47A5-BB35-920A1BF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6D22B-AEB1-4D25-BBA2-50E2FA8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E41F8-4F6F-4A75-ACE2-8B8CF11A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50DA5-56C5-4254-8CB2-01A0D6F9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56DC2-1963-4E7B-9A2F-4C3B20B7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160F8-7455-4525-B09F-A12C4D8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BF82E-10D6-4B8F-BF36-E2154FC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FFA9A-2F4C-43F7-B9FB-A7D3CBEE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A55ED-B1CF-47A1-BC32-976962D7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8B886-B68F-44B7-B573-6725EF7A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6D478-A9C3-4332-84D2-48EE25F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B7E-623A-4703-9C41-BEEADCF7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AF74-849C-46C2-BF55-C0AF4C6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69653-A2BA-4A52-BC33-CB871F6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99205-F401-48F6-8A9C-94ACEF8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14B51-B090-42DE-B1D1-9E140E5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C1E9E-6C78-4105-AC31-97515005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1058C-9610-4789-A7BA-A50993A5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4259D-12F0-476C-B009-6D51104C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04AE7-10AC-424B-A96F-7AFB8A81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4E114-C733-4B3F-BB6A-91D2E3C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F3887-154C-44DC-837F-9491FB9F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619F1-4D9E-4BEA-BB49-C955793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C93-8A39-4FA7-BACE-B63A81A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10223-A454-4AE8-8F2E-C5FECBC4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A92B4-11C6-441D-BB19-5E89FB8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B608D-23E6-496C-B8BF-89E801A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BB01D-8676-4B49-9B5E-69DA6CD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FD44C-102C-4A47-9476-CE985DD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9F8B2-1D90-4FCC-AF49-BE2EA728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94BDA-8635-4D60-A550-89DFAE08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96588-DDE2-4963-920B-1FDA33D0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694A5-9218-4D19-BF51-3BBD7F4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DE27C-DB18-441C-9AE8-42F133E8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4B91-E6C1-4AD2-BF38-1086CF8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9D25C-B0BC-4C41-8504-C0C44C7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9D270-6775-4DBE-B97C-0B3A6EC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298D2-5531-4B5C-8199-C98A08A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F49A4-2D34-41FC-A497-5C5BE026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E3201-49D2-40CC-9D4F-DA617E8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D351E-0AE2-46BB-82DB-D7A40F70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5EADB-6714-4E0E-9A34-F1896BE3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4066C-2889-4D98-9DE4-864A4DCA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99DE3-FB5C-46FA-A865-6C7B7AD7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E2C09-B313-4E0B-A6BB-FD4DFAA3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D7A6-0222-4126-91F9-FABECF7B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140B3-B5AE-4362-A07D-42889D8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A8B2D-1A7B-495C-8F17-BD17B980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777D1-BB2E-4C13-9537-A252383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58F66-EC40-484C-ACFD-8BE6D02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723A4-714B-4752-96AA-6DE2697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78DB4-A3DC-487E-B75E-DD45743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14F03-104E-446E-9C09-38D82A3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EF537-3F8A-4EE5-B215-1A67120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A08BB-7FBA-41AF-B37B-1E0BCF0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E960D-752E-4EC7-BAA7-AFF0CCB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112-086C-41E1-9B7C-4F83E33C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FDD35-6382-4535-BBE1-B3499F1D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997B3-3999-4998-909F-062F5A52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83C78-11C1-4C55-801C-FDDEB66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8499D-25C0-4753-861F-95E2F252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97CD5-306E-496C-ABAD-DBAED4C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FF3A7-DB35-40EC-B161-CF326AA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5D219-8E33-48C4-B9CF-F595C67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C028B-CB5E-492C-AC1C-120D0A8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4437E-4D73-44F2-B4AB-764A6D8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E374E-413A-42AA-9F37-B8A351E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662D-59FD-41B8-931D-30298BDF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35F80-A18F-460C-9912-3F9BF47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8A544-E60E-44FF-A038-FB2F0495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E85DA-03FA-4CCD-B452-01438EA8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4BADC-6DD0-472E-8A50-1F228D50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8B8B9C-4719-4B12-B09C-FB668ABA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A8CEE-9D7A-4143-8D60-AC2090D3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7A3A6-1A19-4B0E-85AD-AF712A2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3F1FE-07FF-4514-9714-454829D2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D3349-3C8E-4994-922A-73DF1A75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AC8F1-40F6-4426-83F0-7DC9A24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5A14-1C13-47B5-8BA2-D9B06AF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14EB5-CE3D-451C-8D0A-503AA02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705D5-21B2-4282-82EB-CB1FF94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37C0B-3015-4CB5-BB2E-F3576DC7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142A7-6957-4A1D-8F8E-6904B2E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0535A-33A9-4BFA-9B92-CA5B465E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F0C798-6C12-4214-A9EA-EFD681C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01427-239A-4469-BA83-EFB9D8D7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2EB4F-196E-4015-B844-CC435B7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53DED9-57C6-4925-85EF-48A53935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1D3DF-7421-467D-A4B3-1BEBD57B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97E4-52E7-4C58-95EA-4AC55C7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0FB6D-90B9-40D2-B8BC-58E720C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91D53-3DDD-4FC5-878C-AF3B63D9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6F368-3A1E-42C2-8963-AC810A3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DDA2B-5BC4-44C8-B9C9-3D83C7C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56CD35-1365-4521-9243-737F7610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AEAD46-7A4B-4D30-987D-969A5381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48FFD-3929-4632-B7C1-4140A455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0E14D-A7DD-4206-B462-81C1104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2E7E7-47D7-4337-B19E-1B4B5597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141E5D-F5AC-493F-821C-8FE8C71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3B56-4931-4148-9E02-F7BC172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E603AD-D20A-404A-8F39-AECD2C9A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469C0-0D09-4948-A5A2-3BB8C7BB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F6322F-15A8-4CDE-841A-711AE966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DE471-DAC7-4429-A982-82E28E4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0D04C8-6A9B-4A53-8508-92E49A5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68A1D-0E2E-42D2-8311-9B457F3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F67763-CA84-4159-80DB-93F0C82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FC09D-F526-4512-A0C8-305ACECF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E36A6B-3126-406F-A8CF-472D7235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121159-E5FB-4A72-A567-8C00E12A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39AA-6504-4B9B-BDD7-378EDE7B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BBF357-8DDE-454D-AE69-1AD9D73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CBC16D-6DE4-4ACE-8788-0B9CAB8F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A4D154-6AA8-493B-AB0E-EA7B6803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7CB034-91D0-452F-ADE5-22A4264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A94FA5-3293-46D6-BBA6-08035ADE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D064C2-0D57-4763-9A00-C75E1D3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70508-2A3E-411B-A586-7D76676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ED4391-90B2-4590-A606-0020262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3BB1E5-1516-4E91-AC1F-A922DD9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D48498-74C5-4730-AFD5-DFFD30D6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A7C-BCB7-46E4-8B75-96EA3AA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EC99-A2A3-40F9-833F-9AF2299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111291-F0FC-4255-99F5-ED05C239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6F649-60B1-476B-B75D-D7B54FBB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76788-F219-44CE-99E2-466E550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55C9F-3B10-462D-A62F-1A110641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0B10E-398E-4C60-BAD8-F830F35D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6CF52-2F03-415E-83B8-6FE3ADA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03C175-C7D4-4485-B11F-032B66D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7DC1E4-E2C5-43E5-B566-DCE951E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278B5-8B6A-4F6D-9F4C-BB66F6F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E9F815-FFD8-4305-A38E-AB04BE1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CCA0-99EE-4C1C-B2F2-77589A0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BD8531-BC87-4C47-B83C-3A5CC86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ECB76D-A9B7-4FE6-A086-19387F88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0F85CF-7269-410B-ABF2-D89BCB02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50A63-F1E9-4F54-9033-94C9A83E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F9EA40-EFDE-485C-9173-790A2B3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1F0BE0-7E5E-4090-B939-EF47267C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AA80BC-8A5D-40C5-AD1D-C9077CF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8BE103-8FAF-49CC-B254-B3714786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A87F83-053E-4C25-B264-37088E3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546E47-693C-4E68-81FA-E1A58A9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3B75-3BB9-4CAA-AC76-768811D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F17EA6-8266-4D4E-AB02-3189855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C287D0-D57A-4875-AC80-3472D89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768609-38B9-4490-BA15-40761BC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CE9DE7-7354-417A-9BF1-80D226C4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3060C9-7C52-4F6E-B3FA-43FC7887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2734E9-7181-4163-98E3-86DB8740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64EF2B-9508-4864-BC9B-0BEE29F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46AE9A-BA17-4CD0-8FD2-F1422831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960E84-7012-49F7-90EB-535DE51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BF4C7F-260A-409F-AA19-E58FB5D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2AB4-2161-425D-B413-68880D0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C0C1CC-9518-4454-9B62-386ED34D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3D004-1789-4784-B52E-C707880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75BEE1-1DBC-49D1-9A65-CE0226C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136EF6-F56F-4E4A-B6F1-658F87A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C90B35-15F3-4DCC-9C7C-D4F3277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92506C-3D1A-456A-8D49-6640F4E5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4A5E07-E444-4A8E-97C5-AFFF9E88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92963E-F708-4D9F-A66E-CA92E7B3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312972-115F-470D-9374-9CDFCCD4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94F9CA-D2EB-4223-81CF-036425F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6DDC-61CD-4ED2-A082-48F2606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A3F88C-263C-4D3C-95A5-B575E6A7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7FEB88-EEE8-42A9-8592-CEA4610F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13FCDE-67E9-4544-A4BB-B7F3D39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249A09-50D5-4220-BFED-3901400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4F4CBF-37E4-4833-8670-96A6BA2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10610D-C0F6-4004-93C2-A9B6CB9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83A463-4BDA-4A8F-86CC-5D51DFDA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698DCA-2174-4317-A331-BDCCBECE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E8315-E27C-49C7-A1AC-A76184AD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DFCD55-4C8E-4660-8F9B-120FBF97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FF47-6E21-45A9-85C8-D5B2BBEE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15EB12-B2B6-421D-8873-3BB8FEA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7D8A6-4D3E-4042-88BB-A53C5E33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36F1CE-60C2-4776-8F38-09BF67F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8CCA89-2A67-4956-8219-C9E45B9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683812-38DC-46C8-B45D-8C66468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E6BEA4-61E6-4D42-AC89-4BF8667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647E5-61AA-42A7-BBCD-CB7BD54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087C3D-BDB6-42CE-B8E3-D72C462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DAA90C-F327-409B-B7BE-C41FBC1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15879A-A7F2-4F5E-AE16-8A8BB5DC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E2B7-ADB2-42D3-8A6A-C608FF2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D85AC8-38D4-4999-93E4-BCB6FFBD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7A5424-87E4-485E-A151-4A5A2846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A3269F-7042-4151-9772-9522F99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B4991E-A181-4B7C-9583-65CEA68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B309FB-827D-42EB-A76A-991C714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4AF4F-5F2E-4F1F-9D39-76CB062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E66BF2-77DE-46A1-B5D5-3729692E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D60574-ECB6-4BAD-B147-EF4319C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2BF11B-E1C6-4FB6-BD6A-94E5A7E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9DECB2-8737-4EF9-9D29-87D75A9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26E6-A1F0-4739-B853-6C9F1E3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99BE2F-32D8-4150-88A9-180B763E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7F2A61-D6D3-46E8-8214-C173BBF1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6C025C-8E6F-4EDB-ADB5-541B9C99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EBD834-9747-48AE-9E41-3904D4C0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BA696A-DA9C-4975-92CC-E12D8BB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0E4547-6CD9-41CA-8268-00C56132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7F289A-07DF-4971-885E-4758709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1DF760-61F6-4583-B95D-4F96863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F213F6-54E5-4E11-9002-A106278C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D2800D-2FEE-439B-AA18-A5B87E8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D94F-8BEA-4F9A-862C-AD0CDC6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D0F2D5-D1CB-454D-823B-DDBC0C6B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D6E9FE-5C6C-4212-B84E-5E882AF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D22F35-BA12-470D-91B0-6801337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4D2A96-5792-4EE8-A63E-3D5CE2CB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B3E1E-A86A-47B3-853F-691E6A55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C47B2F-B3A7-477F-80ED-69FE650D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638B42-27DC-43C6-AF6F-8E608AA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A96E11-2198-4B40-8CEB-FDD4B322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0CC34C-39AB-4AC7-BCE9-0A1234F7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90F077-0DA0-4377-8DEA-7363E740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2870-77D9-4AFD-B226-B5B8CF8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B9CB74-4C82-48D1-8BD2-8E1E168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306923-278F-488E-A329-B750046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CD2469-B835-4741-95C9-1333D56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DA526B-6002-4D22-9236-96D2B21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0908D9-F6E8-4D7D-A884-0D4F8F2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B3C92F-4ACD-4F52-81CE-5E076190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41F46F-E894-4258-B153-0A1E85B9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6C7305-92D0-445F-9CE8-B00F457A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F74005-8E7F-4B37-81D7-E03B9E6D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C0ABBC-2111-453C-9E56-3C21AB4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93C-1AE9-4559-B755-2532EBCE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AD7F-645B-4450-A250-A4B0611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AD03E3-AE0F-4981-A8CA-B804C139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F38652-5C14-4FF3-9E06-C3184F70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6DC8A5-0079-41CD-81CF-4EA51D79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D90F5E-772C-4A56-9D63-3A44277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7A273A-6A65-4DCB-9C99-5E5A939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DAF54B-2E72-40CC-B1DB-4A6F13B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11D27A-B018-4AD4-8DA8-41326936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FE72EE-B584-4EBD-8051-3A0977C9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6F5E62-86C2-49AE-9B28-3BF2AE04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23471B-A26A-4C40-9EED-7B5C190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8AE9-9412-4774-8642-BD14E17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6E63D9-3A33-4B1F-871C-304EC30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DEB869-A486-4309-AED7-C01AD835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56E07D-6534-47C8-A280-71AAAC35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3C1708-D9C1-40AE-98AE-B2B6C88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313130-987C-4073-B480-62A6349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287177-3747-4439-9314-5922A29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4CBFE5-6D96-4C7D-B858-445A511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BF74A9-0A2D-43B7-944D-9589706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F4040D-6406-4911-9FAF-5FA1A90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767460-960B-4AFB-BA78-F54BD3AC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3663-AEC0-44EF-95CD-B9F197D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BD6F8A-3C89-4849-AC54-A4834B91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A08A33-F388-4ACC-8B75-6425C6E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6C13DC-3B22-46C5-87B6-7D54D2E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9D2EC7-DA87-4821-B62B-4DD1F5C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1B5C9B-FAF2-4A84-8022-FFF07870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2049CD-F770-4292-91D2-4654D28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A36EC3-EBA1-41EA-9C3B-75DC35DC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072353-6330-4D09-9FCC-A90B273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2EAFD9-3D09-4B28-A6E9-46E503C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EC76C1-15B5-4F93-A8B4-20F9EF8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15C9-D52D-4A5C-B0EE-4DBDE04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666F7C-92C8-4C1D-BA7E-D409D7DE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394EE3-98EB-4CCF-85A8-BF6E7009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956DAF-D561-4A31-BD1A-8E437C00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F0A391-8337-42D7-BD71-5527D68B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BF63EC-357A-4129-96DD-9535841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3F0CCB-8EB4-491A-8864-C19B6B3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D539AE-895F-4F23-92F5-EF5E0210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69D0C4-4A1C-4FA3-9DCF-B01B0C5E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35A61E-40AC-4846-A63A-02888AC4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33F8D4-205A-4AB6-8CEC-19978E4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8EDA-C2A3-48F9-8EA2-F5B09F6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F9C15C-A7F3-4D30-82DF-B43B298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FF5B74-62BB-4217-AD14-807C92C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4C9160-CF80-41EB-A577-0CFFC5F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291CEF-7A92-47A7-8FF9-1BC01149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7FADAC-B005-40F0-BF97-D232F3FD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7A78B5-9785-4CB7-8D5D-D05E47A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04AEF9-5BF0-4B6D-A8B4-9E9BF53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7D3143-892E-4171-8DB3-5190298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608FC4-4716-4E13-A014-7BC57E0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08477E-79FB-430F-A38D-81DE504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609C-7EDA-486D-8FD9-1ED4171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17CF12-7034-45CD-AADE-F455BA6E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843C36-E6C5-42FD-902D-FBE368C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8274F5-9973-48F8-A444-2C44AD7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F3F473-9657-4829-BE67-6A4ADE6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611400-56FD-4536-9F79-09B108C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208114-B92D-4BE8-A961-3022BED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191C24-F780-4509-ABE3-2BC9CB0C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61763D-C822-4F51-BF62-D9B6378C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A4583D-AF55-46A0-8CE8-855D7834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46DF42-85D5-447B-B7B0-29CF3082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B6B9-2D21-4C78-A78C-61D56C88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57E660-B34B-448B-B43F-689505B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A83059-CEEE-4C89-8DA0-3D65F45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712BFC-67CF-4AA8-89A0-3FF0F05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1392DC-92B4-40FF-97F1-0F6EF4E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D10477-C13E-4FFC-8103-FA40D439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A33A97-270E-4018-BC69-46A25BC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A76C5D-D42F-45E0-97FD-223600D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EDA3E8-8AA8-4608-B374-986A05D2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45F707B-B4AE-47E6-9FDE-11284979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563F44-F8DF-4FC1-92D1-E22413E2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C233-8ABC-41CF-A8C8-628B8E05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7F4351-1EE3-4FD5-8DF9-5DF2F46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0CC727-45D2-49EB-8A64-B3463A3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9BFA4B-F46B-4EAA-B9B7-6D1446F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CF4BBA-C4F1-43A3-842D-73CE549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40827D-DC81-47B2-BCC8-F8E783A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A6DAF4-07C2-419F-A757-F651755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E42C31-347D-4F2A-85F8-1785883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3C70EC-962E-4558-AD58-F2D3B02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5181EE-2A20-4169-A3C7-C8C853E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B34C5C-8DEC-4E08-B7CB-6109444B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9E4F-8474-4FBC-8E48-A533A014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C6081E-D723-4AA4-BC58-866026B1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49C361-84B1-4317-B386-0CC7D5F8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F3B739-0058-46AD-A47E-AC8A158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E8FC3C-EADD-4E2E-B96D-9B84CEB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745D4E-752A-47E0-95E8-1DCF8848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55B4B8-A24C-4D17-9CFC-0408FBF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105679-4CEA-461C-A361-98FEB6F0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556243-CEAF-475A-B9AD-8B2730D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30F387-59AB-4B5D-88EE-87356FC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EEADD0-422D-48F9-80B8-7C18E11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E7F7-7D6A-4794-8C62-019D583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281ECB-F0DF-4E1A-BBFD-67B78DB1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F4E723-A70D-4CD5-AD65-2778D587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0141F9-F458-4A4B-96AF-E4761836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A20211-E560-406A-A9F7-633313E4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4165CD-25A9-4C31-ACFF-0089F67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ADEAF5-D0F0-470E-8086-A4F15C20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EF3904-5EFE-46D6-917E-CA46150D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72DA9D-E626-487C-842D-35B2D2E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E739A1-8FC6-486C-8278-F04DB55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0F8004-88A8-42C9-8BD3-C564767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C6F-1BD8-43C9-ACAA-18F815C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1A42-EC3D-4619-B955-2947BBC2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D0B6C4-E662-440A-9411-799F672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481300-2A69-4AFB-A718-524AED0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87F9C0-E5B5-492B-9936-160772B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5CA48F-F9A3-4554-B7A6-4E599DC5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ABDFBC-6AE7-4DA2-8360-769A6681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2107E9-F18B-439C-BE83-8CF6211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FB0F3F-7BCA-4259-AA09-7EEC57A8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3BE8DB-8A3F-4839-95E6-C73431D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3887DA-F786-4096-9D2D-13FBB14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41C718-B50E-444B-923C-0859973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844A-3D4B-4F6C-B659-8B6B144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6EAC90-DCC8-481E-9E3C-435E405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CE323A-A1FA-4086-9C60-162595F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1DEFB3-60C8-4D78-B676-76C04EB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42E491-F34F-40C9-A4E0-CA2D73E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73E15C-D85D-40A2-B7AF-7699DF5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4FAD5B-27B6-4376-8461-C94CBFEB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47EA59-E547-44B6-82CD-F7B06241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0934CF-C9EB-457C-90CF-74A65372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772851-AF69-478F-9DF7-7BC703A1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35B1F8-5554-4546-8790-D2C4748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E210-9936-4BFD-84BB-00D9C9B4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A0F3CD-BF2D-4BF3-A3D0-EEA98AE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3946D3-E72E-40B1-85CB-807EF6B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A36E5E-FBE8-4C59-99FC-57B1F6D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3E0660-BF43-4F4C-89A8-7AA4E6B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5FD41B-4615-41AD-AC63-D5814D2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A17919-2937-4732-8F65-CC5B35D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E3B4AF-958A-4A27-A52A-A336F7A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140E4A-13F2-4AA7-B480-D6B5EA85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2E7DE0-EFE0-433F-B6C6-A9BB3A4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D77EDC8-50C7-4E31-AB65-E782506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3681-B414-4388-9267-826BC0A8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BAAF8F-354E-475E-8D96-2CA34DD5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C04187-79E5-4872-8C49-56E6E7B5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54415B-F66A-4FBF-968A-9C06204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D70DBE-C150-48FD-BF2B-986A469F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E7DC16-C389-4C23-B929-78523DA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469C37-EBEA-4FBF-A86C-793BB05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CB45B5-9DC3-40ED-8FAF-E465ECA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028ECB-61B2-4694-A3F2-F30E0C3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6F10F0-4CBC-4B72-B2BB-AC55DAA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10EC8A4-7B34-4ADC-B13C-12572ED0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418C-3A88-4858-A209-6F6137B4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834F2F-D0D4-4813-96F7-6F251B5C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155917-5E52-43FE-B1A0-22161F9E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C17346-9662-4F87-959D-C42B73A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8022AF-BE87-4678-8BDE-D85E84E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BE0FB3-C51A-4C44-BF9D-1637B77B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7E61C8-F753-4D99-901C-69B20A10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7050F3-9978-4FA6-89A4-37E7F81C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448EE93-932F-4712-80F8-B7BED93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1672F9-E68A-4724-BCC0-CC5B1AA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4E2F14-BAF1-4145-ACDA-211D131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8370B-C08D-4DC7-B7D0-6FC7D6C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410F17-CEF2-482F-BDBF-52237A0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C07A2C-BDAC-4643-88AD-C541E914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D0BD86-69B0-420C-A9DD-B959F1D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500162-AB70-4A01-991F-110629B0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1AE1A7-7578-412A-8FFC-7DA2EC9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8558B0-68B5-4E0F-B97D-1094495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54ADC0-3C69-435E-A411-07783BFE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450403-179D-4095-8CEE-D6A5F91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7FE490-A41F-49AA-A773-1D07518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C4C924-7908-4BAA-B916-67F137A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71EB-874B-401F-BDAC-0836647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AC4AA6-B3F5-404C-83DF-8B69CB2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A9FE60-2BB0-426E-8489-8A1790B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F36919-D7D6-4229-8AB6-DCE68AF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56759F-605A-4E31-BEDC-8196A2C1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FCCEF72-AE04-483F-BEAF-6BEEB0B6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B4B40B-17FE-4263-B057-3CE6425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7449C3-4486-40A0-8EBC-7151C88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941314-9826-487A-A419-E62FAE54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500AAC-CDCC-4D7D-BE80-D207145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98066F-DF96-4D22-BC78-E0E1D0B0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AC420-C4B6-4B8D-BE7B-FCA2AAA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B7D11A-494D-4514-873F-C0DA787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917DC9-7803-474C-B8F7-8513EC5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868920-8A56-4D7E-A3CB-986411C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52006E-C1DE-4CB0-A82F-AD211B8A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C55690-9B57-46DD-A370-C76F6E5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6AFAD1-E6B8-457D-A93D-D466E346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10F920-334E-4EBC-87C9-A1EDE925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9473-1A08-4EDD-9320-054B9F2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4868-C173-4585-BD96-2C581281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96D-1DFF-4069-8EE1-CCAC33A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26C7-703D-4F92-A3B3-C6576904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2C69-621C-4F0D-A1FA-EE58652B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0ADAC-AFAC-404D-BE3B-C7A4B56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9CFD-02B7-4B17-95E0-8556747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56E5-EA21-4695-A1A6-DFDAC2B0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5527-411E-4B96-A406-7FCC2ECE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99D1-5B95-40EE-8963-D3FFFFB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7227-9AC5-4347-8067-787090E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06DF-9D22-4D76-B5BC-B1096719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13F3-ACAA-42D3-B9BF-EDCD1F4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DFE-25DA-4AD8-B107-E44C8C2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0FFF-DAC2-40F7-B0D7-FE41779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6817-B67D-4286-8057-485B5B53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AE00-8119-4579-B1F4-014AC8E2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A2C5-6183-4730-8A2A-DFF0AE6E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B703-6720-45E9-87A1-F28F78D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1EF6-0FB1-446C-AFE7-4E82178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A39E-2E91-4A57-99D8-13B165F4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40D1-085F-43BC-80E5-767ED81F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30B4-4D48-4909-BF16-F082912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BF02-0D41-4A7A-A8A1-9A9F96B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222-322D-492F-98F3-3EA2CFA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66D98-48B1-422E-AA07-AFA6949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4BFD-9EB9-4B06-84A7-B3FA4EA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19C1-4BEB-466D-B45A-FBAA2DCF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2D74-F9F7-4028-9D1F-867AB3E8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8D82-B465-4EA3-803A-CAB64BDE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3EE03-13F4-4A6B-BB82-8972EDAF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46D1-C765-4387-B6E9-DB887E97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8BE7-659E-4651-A449-2D9417A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BF486-DC8D-42F3-A57F-664148D2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CC895-619E-4BE4-BCF5-B55F343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8FE-472B-4A08-A2B5-B7FAFE0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91A7-45C3-4287-97F8-13AC36C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F4E9-46C8-49CB-9532-3F36F13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D1DC-2742-4DD7-8B93-C8F9D36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9166-78E7-4EB0-8370-05B6FE8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DB7E-0472-4741-9AB3-6B05FF34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A0DC-5FF9-483B-8410-BFD0EEC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88A1-41BF-4CE1-8846-99EB215A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CED5F-68D0-4874-A61B-D6890B76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90A48-3D14-49C7-A6B6-FDB69DA0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CD167-ABA0-4291-8859-B56CB8C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5A0-3AB1-4EC3-9412-445E5D4C6698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BD26-72D3-4624-8A08-74837080759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1192-E229-4270-947F-BC5AB8A5C12C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AC2-C736-4A0C-AB9E-7FA34A87D41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60FC-0C22-43AA-A19E-0ADC9A0E119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697-4C41-48E2-B0AF-17D2104622B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9999-8E50-4836-9B00-D62BDC22676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89D-0814-43DB-8F8F-33F7100F8E7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CAD7-94E5-4FE1-A180-4404EBE2383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EA5-960C-4971-993D-AF48BF8E9B8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E03-2A43-40BB-885D-4F6AC3439F4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C71-BE1E-4B66-8DFF-7F480799331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CE5-5B1E-49F3-9F93-30FA01C8912F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9A5-17FB-474C-AD64-21AE4FCB102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5072-27A5-4FB3-89A0-6AA6EA7013E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8EDE-E9A9-4B77-B2E4-8C6CC1BD48A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BEB-D653-43D5-A327-6B97D4A5985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155-32E2-4416-8E0D-CA270D4FA84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E3B-A90B-4FD6-A48F-08FD5E7B2C9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54C-E67C-4E3D-A413-8F983A89D07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FBB-DBA5-4515-B2DA-BC0629C143D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FE37-5000-4DE4-9948-7F669CA3EBC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52225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52226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44" name="椭圆 52227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2228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52229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52230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52231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84E7902D-F95F-4607-B334-797A9277861E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5:5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BAE-BE33-4281-9BDC-42C8DECBEE6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3B93-FCAF-41AA-B237-6CDC6E49668E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6B2E-262E-40FE-90A9-CD69DECC5DD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30A-8174-454B-8DC8-C62F35133F0B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DBC-FAE8-49FB-9E6D-E4E1182FF4D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05AC-D958-4A0D-9854-B8FA9AF68E0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E2C-332D-434B-84E4-2A9507B65B2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818-E44E-4D4A-A166-6A22D9D58EA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D57-4D84-48F0-8040-FB434295803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7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38DD-C7A9-43AC-A839-63C5864C3945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7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7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94C-E4D2-4D1D-9CC2-8037EEE6266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E551-A850-4834-AF95-09E99090BEB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0AA5-0887-463B-8ED4-F3CE25B87C2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7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677-E600-4028-AD3F-680C193A4A9E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7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7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75E-10E3-4EC0-8064-6975985803D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53249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1082" name="椭圆 53250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53251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椭圆 53252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53253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53254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53255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7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4CE52A7C-7C69-4B55-A9CD-F48131F09196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8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8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A7D-6237-493E-82B7-7EB65498A9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AF1A9899-9B4C-430D-B760-B632431C3A53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FBA2-D30B-42C1-8CED-23503E12AD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04876679-A58B-48C6-890B-3C4ECF812F35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9930-FD35-4A2A-BA64-230682735C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7345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7346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92" name="椭圆 57347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7348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7349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7350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57351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A377BBA6-EE7E-4182-94B3-7923D52D1745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5:5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53B8-79B5-415C-A3C3-6E9CCAB5406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256CDE03-636D-45D5-88D6-B6018E85F453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9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ED8-94D2-40AD-A863-4CFE713335E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9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39E1D818-A9E3-40A2-8EE5-68DCA223E95A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9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9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D7CB-AF7F-4183-984F-EDA241210B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9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5B070480-8FC5-42A1-960F-B0E69C0670E3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C7E2-3825-456D-BD5A-8246980D8AF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4F68AB2-C36A-48BF-9778-93A750BC924D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3C8-38FC-4579-B00B-FD49879D5F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10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FFDDCAA8-4B97-44B5-9BAF-92A159C002E2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10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10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8784-6FCF-4574-B0CB-3D88F7F0DB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10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61512F24-3E77-4264-ABDF-280F6716C170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10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C78-51B2-4D60-9624-34C90C9F76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4CB354FA-5A6C-433D-B365-BE1FD17D7AC8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D662-599C-4F35-9793-90396D31E2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BFF498D-FC02-49A5-A227-BCDB3CAC8CC8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1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1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6623-4C2B-4307-AD88-47C6FD3BE51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组合 58369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1540" name="椭圆 58370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椭圆 58371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椭圆 58372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椭圆 58373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椭圆 58374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椭圆 58375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11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D4277740-BC7C-4FF6-AFE4-72E1B808727B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11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11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51C-4210-4E54-8EBE-1A37BE63BEB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D8DB02CB-EA17-43AA-ABA3-7211B0482DFE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F90-17E5-4EB3-8C7B-E57F9ADF9B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A0E9-10F7-4986-A24D-A8EDE4A9ED8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84B-40FD-4BC5-AE53-C00802BD499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A8A386A-2220-4B93-88C1-5F0FA6E72D16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2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DB8-7618-4D05-908D-FB3C902200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dt" idx="12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FAD7CC60-8E37-4677-A231-1EC861CDB808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12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12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D3B2-FF7F-4F90-A951-4FA8019D81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dt" idx="12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7471562-C37E-4B19-BFA2-286810F89150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2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 type="sldNum" idx="12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66CB-DDCF-47BE-8A5C-AAE34DDD17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 type="dt" idx="12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935BD3A-98BF-4FA2-AE3C-B6E6FFAF8F78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 type="ftr" idx="12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 type="sldNum" idx="12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FF9E-4AAD-432B-98D7-D7A52399182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dt" idx="13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498DEFF-931D-4BD1-B1C8-50F9863DA72C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3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3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948F-A055-49D3-9F66-121D8B8805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dt" idx="13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B7161703-D0B5-497B-B0CC-48AB04E7C9FE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 type="ftr" idx="13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 type="sldNum" idx="13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E332-1051-4322-B551-8CE7F72EF5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dt" idx="13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5280962E-A613-4578-8434-19318BE2621B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 type="ftr" idx="13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 type="sldNum" idx="13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60F-CF49-4EA2-9D4D-7555E277AC8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 type="dt" idx="13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0C357957-8CA2-4040-8CD8-9724CEA8C2F4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 type="ftr" idx="14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 type="sldNum" idx="14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03B-08F1-44C8-BDAE-9A98121D862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14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9B57B9C6-B0A4-4A18-80F5-A709C28782CF}" type="datetime11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2:26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6E2F-9233-4D14-AD97-880C7EA987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ADA-95C6-4D21-ABE0-58CF8ADC3336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85D-F6C5-4799-81D4-B9F4CA28E99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C0C-351E-4DD7-9E8E-59D5E80D33D6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58E-A0D9-4AB8-9D3F-D4AA7BDA6A8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E26-B8E4-48F0-A9AC-4D682B80BCE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4E02-B57A-40CD-BA73-39549305B54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2953-58BF-47B4-974E-9313F4CD5D5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38F4-354C-433D-A5D1-BDB2848D0B5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9600" y="431640"/>
            <a:ext cx="1085220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69600" y="1294920"/>
            <a:ext cx="1085220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D0D8-0CE7-449D-99DF-97EEA872BBA9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8D56-8F16-4617-B71E-E28241548A8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2460240" y="2135160"/>
            <a:ext cx="7270920" cy="16034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</a:rPr>
              <a:t>猎人海力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subTitle"/>
          </p:nvPr>
        </p:nvSpPr>
        <p:spPr>
          <a:xfrm>
            <a:off x="4071600" y="3630240"/>
            <a:ext cx="4305240" cy="35244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圆角矩形 10"/>
          <p:cNvSpPr/>
          <p:nvPr/>
        </p:nvSpPr>
        <p:spPr>
          <a:xfrm>
            <a:off x="858960" y="2230560"/>
            <a:ext cx="10601280" cy="357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矩形 4"/>
          <p:cNvSpPr/>
          <p:nvPr/>
        </p:nvSpPr>
        <p:spPr>
          <a:xfrm>
            <a:off x="2877840" y="985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句子：研讨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7" name="Picture 2" descr="C:\Users\lenovo\Desktop\ppt图片素材\666666.png666666"/>
          <p:cNvPicPr/>
          <p:nvPr/>
        </p:nvPicPr>
        <p:blipFill>
          <a:blip r:embed="rId1"/>
          <a:stretch/>
        </p:blipFill>
        <p:spPr>
          <a:xfrm>
            <a:off x="9390240" y="51588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2048" name="矩形 6"/>
          <p:cNvSpPr/>
          <p:nvPr/>
        </p:nvSpPr>
        <p:spPr>
          <a:xfrm>
            <a:off x="1463760" y="2432160"/>
            <a:ext cx="93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个老人对海力布说：“海力布，你是我们的好邻居，我们知道你从来不说谎话。可是今天你让我们搬家，你总得说清楚呀。咱们在这山下住了好几代啦，老老小小这么多人，搬家可不容易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矩形 7"/>
          <p:cNvSpPr/>
          <p:nvPr/>
        </p:nvSpPr>
        <p:spPr>
          <a:xfrm>
            <a:off x="5299920" y="2908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你从来不说谎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矩形 8"/>
          <p:cNvSpPr/>
          <p:nvPr/>
        </p:nvSpPr>
        <p:spPr>
          <a:xfrm>
            <a:off x="4326480" y="3430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总得说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矩形 11"/>
          <p:cNvSpPr/>
          <p:nvPr/>
        </p:nvSpPr>
        <p:spPr>
          <a:xfrm>
            <a:off x="7272000" y="3909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搬家可不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矩形 12"/>
          <p:cNvSpPr/>
          <p:nvPr/>
        </p:nvSpPr>
        <p:spPr>
          <a:xfrm>
            <a:off x="3531960" y="46911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黑体"/>
                <a:ea typeface="黑体"/>
              </a:rPr>
              <a:t>你从红色字体的词语体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圆角矩形 10"/>
          <p:cNvSpPr/>
          <p:nvPr/>
        </p:nvSpPr>
        <p:spPr>
          <a:xfrm>
            <a:off x="858960" y="2230560"/>
            <a:ext cx="10601280" cy="357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矩形 4"/>
          <p:cNvSpPr/>
          <p:nvPr/>
        </p:nvSpPr>
        <p:spPr>
          <a:xfrm>
            <a:off x="3111840" y="1077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句子：研讨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5" name="Picture 2" descr="C:\Users\lenovo\Desktop\ppt图片素材\QQ图片20190525124002.pngQQ图片20190525124002"/>
          <p:cNvPicPr/>
          <p:nvPr/>
        </p:nvPicPr>
        <p:blipFill>
          <a:blip r:embed="rId1"/>
          <a:stretch/>
        </p:blipFill>
        <p:spPr>
          <a:xfrm>
            <a:off x="9588600" y="861840"/>
            <a:ext cx="1454040" cy="1148040"/>
          </a:xfrm>
          <a:prstGeom prst="rect">
            <a:avLst/>
          </a:prstGeom>
          <a:ln w="0">
            <a:noFill/>
          </a:ln>
        </p:spPr>
      </p:pic>
      <p:sp>
        <p:nvSpPr>
          <p:cNvPr id="2056" name="矩形 7"/>
          <p:cNvSpPr/>
          <p:nvPr/>
        </p:nvSpPr>
        <p:spPr>
          <a:xfrm>
            <a:off x="2285280" y="2576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你从来不说谎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矩形 8"/>
          <p:cNvSpPr/>
          <p:nvPr/>
        </p:nvSpPr>
        <p:spPr>
          <a:xfrm>
            <a:off x="5448960" y="25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总得说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矩形 11"/>
          <p:cNvSpPr/>
          <p:nvPr/>
        </p:nvSpPr>
        <p:spPr>
          <a:xfrm>
            <a:off x="8181720" y="2622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搬家可不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矩形 12"/>
          <p:cNvSpPr/>
          <p:nvPr/>
        </p:nvSpPr>
        <p:spPr>
          <a:xfrm>
            <a:off x="2939040" y="32180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从红色字体的词语体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矩形 1"/>
          <p:cNvSpPr/>
          <p:nvPr/>
        </p:nvSpPr>
        <p:spPr>
          <a:xfrm>
            <a:off x="3199320" y="4017960"/>
            <a:ext cx="64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我从红色字体的词语体会到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人海力布说出实情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临变成石头，可是乡亲们也有难处，不愿意搬家，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到麻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圆角矩形 10"/>
          <p:cNvSpPr/>
          <p:nvPr/>
        </p:nvSpPr>
        <p:spPr>
          <a:xfrm>
            <a:off x="858960" y="2422440"/>
            <a:ext cx="10601280" cy="274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2" name="Picture 2" descr="C:\Users\lenovo\Desktop\ppt图片素材\22222.png22222"/>
          <p:cNvPicPr/>
          <p:nvPr/>
        </p:nvPicPr>
        <p:blipFill>
          <a:blip r:embed="rId1"/>
          <a:stretch/>
        </p:blipFill>
        <p:spPr>
          <a:xfrm>
            <a:off x="8070840" y="536400"/>
            <a:ext cx="1133640" cy="1708200"/>
          </a:xfrm>
          <a:prstGeom prst="rect">
            <a:avLst/>
          </a:prstGeom>
          <a:ln w="0">
            <a:noFill/>
          </a:ln>
        </p:spPr>
      </p:pic>
      <p:sp>
        <p:nvSpPr>
          <p:cNvPr id="2063" name="矩形 2"/>
          <p:cNvSpPr/>
          <p:nvPr/>
        </p:nvSpPr>
        <p:spPr>
          <a:xfrm>
            <a:off x="1251000" y="2870280"/>
            <a:ext cx="998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面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乡亲们的问题，海力布想：说清楚吧（             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说清楚吧（                                       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生死关头，海力布毅然决定（         ），就镇定地对大家：“ （                                         ）  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圆角矩形 6"/>
          <p:cNvSpPr/>
          <p:nvPr/>
        </p:nvSpPr>
        <p:spPr>
          <a:xfrm>
            <a:off x="587520" y="695160"/>
            <a:ext cx="244764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圆角矩形 10"/>
          <p:cNvSpPr/>
          <p:nvPr/>
        </p:nvSpPr>
        <p:spPr>
          <a:xfrm>
            <a:off x="858960" y="2422440"/>
            <a:ext cx="10601280" cy="3567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6" name="Picture 3" descr=""/>
          <p:cNvPicPr/>
          <p:nvPr/>
        </p:nvPicPr>
        <p:blipFill>
          <a:blip r:embed="rId1"/>
          <a:stretch/>
        </p:blipFill>
        <p:spPr>
          <a:xfrm>
            <a:off x="1511280" y="2773440"/>
            <a:ext cx="4540320" cy="2865240"/>
          </a:xfrm>
          <a:prstGeom prst="rect">
            <a:avLst/>
          </a:prstGeom>
          <a:ln w="0">
            <a:noFill/>
          </a:ln>
        </p:spPr>
      </p:pic>
      <p:sp>
        <p:nvSpPr>
          <p:cNvPr id="2067" name="矩形 1"/>
          <p:cNvSpPr/>
          <p:nvPr/>
        </p:nvSpPr>
        <p:spPr>
          <a:xfrm>
            <a:off x="7043760" y="3213000"/>
            <a:ext cx="381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接着海力布对大家说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8" name="Picture 2" descr="C:\Users\lenovo\Desktop\ppt图片素材\22222.png22222"/>
          <p:cNvPicPr/>
          <p:nvPr/>
        </p:nvPicPr>
        <p:blipFill>
          <a:blip r:embed="rId2"/>
          <a:stretch/>
        </p:blipFill>
        <p:spPr>
          <a:xfrm>
            <a:off x="8070840" y="536400"/>
            <a:ext cx="1133640" cy="1708200"/>
          </a:xfrm>
          <a:prstGeom prst="rect">
            <a:avLst/>
          </a:prstGeom>
          <a:ln w="0">
            <a:noFill/>
          </a:ln>
        </p:spPr>
      </p:pic>
      <p:sp>
        <p:nvSpPr>
          <p:cNvPr id="2069" name="圆角矩形 6"/>
          <p:cNvSpPr/>
          <p:nvPr/>
        </p:nvSpPr>
        <p:spPr>
          <a:xfrm>
            <a:off x="587520" y="695160"/>
            <a:ext cx="244764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圆角矩形 10"/>
          <p:cNvSpPr/>
          <p:nvPr/>
        </p:nvSpPr>
        <p:spPr>
          <a:xfrm>
            <a:off x="858960" y="2422440"/>
            <a:ext cx="10601280" cy="372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1" name="Picture 3" descr=""/>
          <p:cNvPicPr/>
          <p:nvPr/>
        </p:nvPicPr>
        <p:blipFill>
          <a:blip r:embed="rId1"/>
          <a:stretch/>
        </p:blipFill>
        <p:spPr>
          <a:xfrm>
            <a:off x="1467000" y="2773440"/>
            <a:ext cx="4128840" cy="2865240"/>
          </a:xfrm>
          <a:prstGeom prst="rect">
            <a:avLst/>
          </a:prstGeom>
          <a:ln w="0">
            <a:noFill/>
          </a:ln>
        </p:spPr>
      </p:pic>
      <p:sp>
        <p:nvSpPr>
          <p:cNvPr id="2072" name="矩形 1"/>
          <p:cNvSpPr/>
          <p:nvPr/>
        </p:nvSpPr>
        <p:spPr>
          <a:xfrm>
            <a:off x="6130800" y="257508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海力布镇定地对大家说：“今天晚上，这里的大山要崩塌，洪水要淹没大地。你们看，鸟都飞走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矩形 2"/>
          <p:cNvSpPr/>
          <p:nvPr/>
        </p:nvSpPr>
        <p:spPr>
          <a:xfrm>
            <a:off x="8331120" y="2575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矩形 5"/>
          <p:cNvSpPr/>
          <p:nvPr/>
        </p:nvSpPr>
        <p:spPr>
          <a:xfrm>
            <a:off x="6159600" y="5127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镇定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从容不迫，不慌不忙，看出海力布说的是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5" name="Picture 2" descr="C:\Users\lenovo\Desktop\ppt图片素材\22222.png22222"/>
          <p:cNvPicPr/>
          <p:nvPr/>
        </p:nvPicPr>
        <p:blipFill>
          <a:blip r:embed="rId2"/>
          <a:stretch/>
        </p:blipFill>
        <p:spPr>
          <a:xfrm>
            <a:off x="8070840" y="536400"/>
            <a:ext cx="1133640" cy="1708200"/>
          </a:xfrm>
          <a:prstGeom prst="rect">
            <a:avLst/>
          </a:prstGeom>
          <a:ln w="0">
            <a:noFill/>
          </a:ln>
        </p:spPr>
      </p:pic>
      <p:sp>
        <p:nvSpPr>
          <p:cNvPr id="2076" name="圆角矩形 7"/>
          <p:cNvSpPr/>
          <p:nvPr/>
        </p:nvSpPr>
        <p:spPr>
          <a:xfrm>
            <a:off x="587520" y="695160"/>
            <a:ext cx="244764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圆角矩形 10"/>
          <p:cNvSpPr/>
          <p:nvPr/>
        </p:nvSpPr>
        <p:spPr>
          <a:xfrm>
            <a:off x="858960" y="2422440"/>
            <a:ext cx="10951920" cy="3567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2d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8" name="Picture 3" descr=""/>
          <p:cNvPicPr/>
          <p:nvPr/>
        </p:nvPicPr>
        <p:blipFill>
          <a:blip r:embed="rId1"/>
          <a:stretch/>
        </p:blipFill>
        <p:spPr>
          <a:xfrm>
            <a:off x="1395360" y="2803680"/>
            <a:ext cx="3363840" cy="2865240"/>
          </a:xfrm>
          <a:prstGeom prst="rect">
            <a:avLst/>
          </a:prstGeom>
          <a:ln w="0">
            <a:noFill/>
          </a:ln>
        </p:spPr>
      </p:pic>
      <p:sp>
        <p:nvSpPr>
          <p:cNvPr id="2079" name="矩形 1"/>
          <p:cNvSpPr/>
          <p:nvPr/>
        </p:nvSpPr>
        <p:spPr>
          <a:xfrm>
            <a:off x="6130800" y="25750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矩形 5"/>
          <p:cNvSpPr/>
          <p:nvPr/>
        </p:nvSpPr>
        <p:spPr>
          <a:xfrm>
            <a:off x="5900760" y="289872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力布是个怎样的人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矩形 6"/>
          <p:cNvSpPr/>
          <p:nvPr/>
        </p:nvSpPr>
        <p:spPr>
          <a:xfrm>
            <a:off x="5054760" y="3932280"/>
            <a:ext cx="65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海力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平时热心助人，不求回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危急关头舍己救人，堪称英雄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2" name="Picture 2" descr="C:\Users\lenovo\Desktop\ppt图片素材\22222.png22222"/>
          <p:cNvPicPr/>
          <p:nvPr/>
        </p:nvPicPr>
        <p:blipFill>
          <a:blip r:embed="rId2"/>
          <a:stretch/>
        </p:blipFill>
        <p:spPr>
          <a:xfrm>
            <a:off x="8070840" y="536400"/>
            <a:ext cx="1133640" cy="1708200"/>
          </a:xfrm>
          <a:prstGeom prst="rect">
            <a:avLst/>
          </a:prstGeom>
          <a:ln w="0">
            <a:noFill/>
          </a:ln>
        </p:spPr>
      </p:pic>
      <p:sp>
        <p:nvSpPr>
          <p:cNvPr id="2083" name="圆角矩形 7"/>
          <p:cNvSpPr/>
          <p:nvPr/>
        </p:nvSpPr>
        <p:spPr>
          <a:xfrm>
            <a:off x="587520" y="695160"/>
            <a:ext cx="244764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圆角矩形 10"/>
          <p:cNvSpPr/>
          <p:nvPr/>
        </p:nvSpPr>
        <p:spPr>
          <a:xfrm>
            <a:off x="858960" y="2422440"/>
            <a:ext cx="10951920" cy="3567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5" name="Picture 3" descr=""/>
          <p:cNvPicPr/>
          <p:nvPr/>
        </p:nvPicPr>
        <p:blipFill>
          <a:blip r:embed="rId1"/>
          <a:stretch/>
        </p:blipFill>
        <p:spPr>
          <a:xfrm>
            <a:off x="1395360" y="2803680"/>
            <a:ext cx="2597040" cy="2865240"/>
          </a:xfrm>
          <a:prstGeom prst="rect">
            <a:avLst/>
          </a:prstGeom>
          <a:ln w="0">
            <a:noFill/>
          </a:ln>
        </p:spPr>
      </p:pic>
      <p:sp>
        <p:nvSpPr>
          <p:cNvPr id="2086" name="矩形 1"/>
          <p:cNvSpPr/>
          <p:nvPr/>
        </p:nvSpPr>
        <p:spPr>
          <a:xfrm>
            <a:off x="6130800" y="25750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矩形 6"/>
          <p:cNvSpPr/>
          <p:nvPr/>
        </p:nvSpPr>
        <p:spPr>
          <a:xfrm>
            <a:off x="4581360" y="2928960"/>
            <a:ext cx="65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们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世世代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纪念海力布。据说现在还能找到那块叫做“海力布”的石头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矩形 2"/>
          <p:cNvSpPr/>
          <p:nvPr/>
        </p:nvSpPr>
        <p:spPr>
          <a:xfrm>
            <a:off x="6522840" y="2928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世世代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矩形 7"/>
          <p:cNvSpPr/>
          <p:nvPr/>
        </p:nvSpPr>
        <p:spPr>
          <a:xfrm>
            <a:off x="4581360" y="4592520"/>
            <a:ext cx="66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e04236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e04236"/>
                </a:solidFill>
                <a:latin typeface="黑体"/>
                <a:ea typeface="黑体"/>
              </a:rPr>
              <a:t>世世代代”是什么意思呢？请用它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0" name="Picture 2" descr="C:\Users\lenovo\Desktop\ppt图片素材\22222.png22222"/>
          <p:cNvPicPr/>
          <p:nvPr/>
        </p:nvPicPr>
        <p:blipFill>
          <a:blip r:embed="rId2"/>
          <a:stretch/>
        </p:blipFill>
        <p:spPr>
          <a:xfrm>
            <a:off x="8070840" y="536400"/>
            <a:ext cx="1133640" cy="1708200"/>
          </a:xfrm>
          <a:prstGeom prst="rect">
            <a:avLst/>
          </a:prstGeom>
          <a:ln w="0">
            <a:noFill/>
          </a:ln>
        </p:spPr>
      </p:pic>
      <p:sp>
        <p:nvSpPr>
          <p:cNvPr id="2091" name="圆角矩形 8"/>
          <p:cNvSpPr/>
          <p:nvPr/>
        </p:nvSpPr>
        <p:spPr>
          <a:xfrm>
            <a:off x="587520" y="695160"/>
            <a:ext cx="244764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朗读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圆角矩形 10"/>
          <p:cNvSpPr/>
          <p:nvPr/>
        </p:nvSpPr>
        <p:spPr>
          <a:xfrm>
            <a:off x="858960" y="2422440"/>
            <a:ext cx="10951920" cy="3567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2d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3" name="Picture 3" descr=""/>
          <p:cNvPicPr/>
          <p:nvPr/>
        </p:nvPicPr>
        <p:blipFill>
          <a:blip r:embed="rId1"/>
          <a:stretch/>
        </p:blipFill>
        <p:spPr>
          <a:xfrm>
            <a:off x="1395360" y="2803680"/>
            <a:ext cx="2597040" cy="2865240"/>
          </a:xfrm>
          <a:prstGeom prst="rect">
            <a:avLst/>
          </a:prstGeom>
          <a:ln w="0">
            <a:noFill/>
          </a:ln>
        </p:spPr>
      </p:pic>
      <p:sp>
        <p:nvSpPr>
          <p:cNvPr id="2094" name="矩形 1"/>
          <p:cNvSpPr/>
          <p:nvPr/>
        </p:nvSpPr>
        <p:spPr>
          <a:xfrm>
            <a:off x="6130800" y="25750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矩形 7"/>
          <p:cNvSpPr/>
          <p:nvPr/>
        </p:nvSpPr>
        <p:spPr>
          <a:xfrm>
            <a:off x="4815000" y="2803680"/>
            <a:ext cx="66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e04236"/>
                </a:solidFill>
                <a:latin typeface="微软雅黑"/>
                <a:ea typeface="微软雅黑"/>
              </a:rPr>
              <a:t>世世代代”是什么意思呢？请用它造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矩形 8"/>
          <p:cNvSpPr/>
          <p:nvPr/>
        </p:nvSpPr>
        <p:spPr>
          <a:xfrm>
            <a:off x="4575240" y="3621240"/>
            <a:ext cx="63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世世代代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指时间久远。形容很多年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好几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矩形 9"/>
          <p:cNvSpPr/>
          <p:nvPr/>
        </p:nvSpPr>
        <p:spPr>
          <a:xfrm>
            <a:off x="5866920" y="4714920"/>
            <a:ext cx="40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典诵读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世世代代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传下去，这是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传统文化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圆角矩形 2"/>
          <p:cNvSpPr/>
          <p:nvPr/>
        </p:nvSpPr>
        <p:spPr>
          <a:xfrm>
            <a:off x="587520" y="695160"/>
            <a:ext cx="318276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理解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圆角矩形 10"/>
          <p:cNvSpPr/>
          <p:nvPr/>
        </p:nvSpPr>
        <p:spPr>
          <a:xfrm>
            <a:off x="1189080" y="2239920"/>
            <a:ext cx="9405720" cy="3338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矩形 4"/>
          <p:cNvSpPr/>
          <p:nvPr/>
        </p:nvSpPr>
        <p:spPr>
          <a:xfrm>
            <a:off x="3985920" y="1008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微软雅黑"/>
                <a:ea typeface="微软雅黑"/>
              </a:rPr>
              <a:t>巩固后指导创新复述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矩形 1"/>
          <p:cNvSpPr/>
          <p:nvPr/>
        </p:nvSpPr>
        <p:spPr>
          <a:xfrm>
            <a:off x="1441440" y="3408480"/>
            <a:ext cx="89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本文主要讲了：海力布救了龙王的女儿小白蛇，龙王把宝石送给海力布报答他。海力布从鸟儿那里听到了可怕的消息，告诉了乡亲们，自己变成了石头，乡亲们世世代代纪念海力布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2" name="Picture 3" descr="C:\Users\lenovo\Desktop\ppt图片素材\12344.png12344"/>
          <p:cNvPicPr/>
          <p:nvPr/>
        </p:nvPicPr>
        <p:blipFill>
          <a:blip r:embed="rId1"/>
          <a:stretch/>
        </p:blipFill>
        <p:spPr>
          <a:xfrm>
            <a:off x="9053640" y="604800"/>
            <a:ext cx="1390680" cy="1389240"/>
          </a:xfrm>
          <a:prstGeom prst="rect">
            <a:avLst/>
          </a:prstGeom>
          <a:ln w="0">
            <a:noFill/>
          </a:ln>
        </p:spPr>
      </p:pic>
      <p:sp>
        <p:nvSpPr>
          <p:cNvPr id="2103" name="矩形 2"/>
          <p:cNvSpPr/>
          <p:nvPr/>
        </p:nvSpPr>
        <p:spPr>
          <a:xfrm>
            <a:off x="4971960" y="2517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微软雅黑"/>
                <a:ea typeface="微软雅黑"/>
              </a:rPr>
              <a:t>说说本文主要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20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圆角矩形 10"/>
          <p:cNvSpPr/>
          <p:nvPr/>
        </p:nvSpPr>
        <p:spPr>
          <a:xfrm>
            <a:off x="765000" y="2239920"/>
            <a:ext cx="9829800" cy="3724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矩形 4"/>
          <p:cNvSpPr/>
          <p:nvPr/>
        </p:nvSpPr>
        <p:spPr>
          <a:xfrm>
            <a:off x="4105800" y="96192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04236"/>
                </a:solidFill>
                <a:latin typeface="微软雅黑"/>
                <a:ea typeface="微软雅黑"/>
              </a:rPr>
              <a:t>用自己的话简要复述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矩形 1"/>
          <p:cNvSpPr/>
          <p:nvPr/>
        </p:nvSpPr>
        <p:spPr>
          <a:xfrm>
            <a:off x="1149480" y="2505240"/>
            <a:ext cx="97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海力布救了龙王的女儿小白蛇，小白蛇要报答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1182600" y="3147840"/>
            <a:ext cx="9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龙王把宝石送给海力布，小白蛇再三叮嘱他，动物说的话，千万不要对别人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矩形 6"/>
          <p:cNvSpPr/>
          <p:nvPr/>
        </p:nvSpPr>
        <p:spPr>
          <a:xfrm>
            <a:off x="1185840" y="4102200"/>
            <a:ext cx="96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海力布利用宝石从鸟儿那里听到了可怕的消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矩形 7"/>
          <p:cNvSpPr/>
          <p:nvPr/>
        </p:nvSpPr>
        <p:spPr>
          <a:xfrm>
            <a:off x="1185840" y="4748040"/>
            <a:ext cx="94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海力布把鸟儿的话告诉了乡亲们，自己变成了石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矩形 8"/>
          <p:cNvSpPr/>
          <p:nvPr/>
        </p:nvSpPr>
        <p:spPr>
          <a:xfrm>
            <a:off x="1182600" y="534816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乡亲们得救了，人们世世代代纪念海力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1" name="Picture 3" descr="C:\Users\lenovo\Desktop\ppt图片素材\灯泡.png灯泡"/>
          <p:cNvPicPr/>
          <p:nvPr/>
        </p:nvPicPr>
        <p:blipFill>
          <a:blip r:embed="rId1"/>
          <a:stretch/>
        </p:blipFill>
        <p:spPr>
          <a:xfrm>
            <a:off x="10850400" y="4822920"/>
            <a:ext cx="1609920" cy="9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20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矩形 4"/>
          <p:cNvSpPr/>
          <p:nvPr/>
        </p:nvSpPr>
        <p:spPr>
          <a:xfrm>
            <a:off x="789120" y="2235240"/>
            <a:ext cx="984564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节课我们初读课文，理清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人海力布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层次，初步感知了课文内容，这节课继续研读讨论，深层次理解课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圆角矩形 20"/>
          <p:cNvSpPr/>
          <p:nvPr/>
        </p:nvSpPr>
        <p:spPr>
          <a:xfrm>
            <a:off x="4971960" y="851040"/>
            <a:ext cx="2944800" cy="6714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a1c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故知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1" name="图片 21" descr="C:\Users\lenovo\Desktop\ppt图片素材\灯泡.png灯泡"/>
          <p:cNvPicPr/>
          <p:nvPr/>
        </p:nvPicPr>
        <p:blipFill>
          <a:blip r:embed="rId1"/>
          <a:stretch/>
        </p:blipFill>
        <p:spPr>
          <a:xfrm>
            <a:off x="3971880" y="577800"/>
            <a:ext cx="165096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文本框 2"/>
          <p:cNvSpPr/>
          <p:nvPr/>
        </p:nvSpPr>
        <p:spPr>
          <a:xfrm>
            <a:off x="1193760" y="1638360"/>
            <a:ext cx="949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． 给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红色字体的字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注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谢（      ）   僵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促（      ）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崩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塌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．积累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例：世世代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________   ________ 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描写天气的词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例：乌云密布 狂风怒号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________ ________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表示人物心情的词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例：欣喜若狂 悲痛欲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________ ________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2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圆角矩形 10"/>
          <p:cNvSpPr/>
          <p:nvPr/>
        </p:nvSpPr>
        <p:spPr>
          <a:xfrm>
            <a:off x="1716120" y="2154240"/>
            <a:ext cx="8655120" cy="3301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文本框 3"/>
          <p:cNvSpPr/>
          <p:nvPr/>
        </p:nvSpPr>
        <p:spPr>
          <a:xfrm>
            <a:off x="2263680" y="2728800"/>
            <a:ext cx="849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对乡亲的问题，海力布想：说清楚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说清楚吧（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死关头，海力布决定（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文本框 4"/>
          <p:cNvSpPr/>
          <p:nvPr/>
        </p:nvSpPr>
        <p:spPr>
          <a:xfrm>
            <a:off x="4255920" y="313704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自己就要变成石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文本框 7"/>
          <p:cNvSpPr/>
          <p:nvPr/>
        </p:nvSpPr>
        <p:spPr>
          <a:xfrm>
            <a:off x="4788360" y="936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4236"/>
                </a:solidFill>
                <a:latin typeface="微软雅黑"/>
                <a:ea typeface="微软雅黑"/>
              </a:rPr>
              <a:t>根据内容展开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文本框 8"/>
          <p:cNvSpPr/>
          <p:nvPr/>
        </p:nvSpPr>
        <p:spPr>
          <a:xfrm>
            <a:off x="5060880" y="372276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乡亲们不肯搬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文本框 9"/>
          <p:cNvSpPr/>
          <p:nvPr/>
        </p:nvSpPr>
        <p:spPr>
          <a:xfrm>
            <a:off x="7205400" y="41608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说出真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2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圆角矩形 10"/>
          <p:cNvSpPr/>
          <p:nvPr/>
        </p:nvSpPr>
        <p:spPr>
          <a:xfrm>
            <a:off x="1569960" y="1914480"/>
            <a:ext cx="9326520" cy="4324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文本框 3"/>
          <p:cNvSpPr/>
          <p:nvPr/>
        </p:nvSpPr>
        <p:spPr>
          <a:xfrm>
            <a:off x="1919160" y="2452680"/>
            <a:ext cx="849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海里布镇定地对大家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文本框 7"/>
          <p:cNvSpPr/>
          <p:nvPr/>
        </p:nvSpPr>
        <p:spPr>
          <a:xfrm>
            <a:off x="4788360" y="936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4236"/>
                </a:solidFill>
                <a:latin typeface="微软雅黑"/>
                <a:ea typeface="微软雅黑"/>
              </a:rPr>
              <a:t>根据内容展开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文本框 11"/>
          <p:cNvSpPr/>
          <p:nvPr/>
        </p:nvSpPr>
        <p:spPr>
          <a:xfrm>
            <a:off x="2860560" y="3089160"/>
            <a:ext cx="739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4236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今天晚上，这里的大山要崩塌，洪水要淹没大地。你们看，鸟儿都飞走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矩形 1"/>
          <p:cNvSpPr/>
          <p:nvPr/>
        </p:nvSpPr>
        <p:spPr>
          <a:xfrm>
            <a:off x="2529000" y="4513320"/>
            <a:ext cx="79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乡亲们搬走，海力布变成石头，乡亲们纪念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20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文本框 2"/>
          <p:cNvSpPr/>
          <p:nvPr/>
        </p:nvSpPr>
        <p:spPr>
          <a:xfrm>
            <a:off x="1744560" y="1859040"/>
            <a:ext cx="10041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把故事简要复述给同学或者父母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续写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人海力布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记，想象小白蛇如何想方设法救活海力布，海力布如何生活等情景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过了不知多少岁月，有一天，小白蛇来到人间，她要找自己的救命恩人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海力布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圆角矩形 3"/>
          <p:cNvSpPr/>
          <p:nvPr/>
        </p:nvSpPr>
        <p:spPr>
          <a:xfrm>
            <a:off x="587520" y="695160"/>
            <a:ext cx="200340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外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圆角矩形 10"/>
          <p:cNvSpPr/>
          <p:nvPr/>
        </p:nvSpPr>
        <p:spPr>
          <a:xfrm>
            <a:off x="888840" y="2971800"/>
            <a:ext cx="10528560" cy="2727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矩形 4"/>
          <p:cNvSpPr/>
          <p:nvPr/>
        </p:nvSpPr>
        <p:spPr>
          <a:xfrm>
            <a:off x="2243880" y="12859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04236"/>
                </a:solidFill>
                <a:latin typeface="微软雅黑"/>
                <a:ea typeface="微软雅黑"/>
              </a:rPr>
              <a:t>再读课文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互动讨论理解重点句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矩形 5"/>
          <p:cNvSpPr/>
          <p:nvPr/>
        </p:nvSpPr>
        <p:spPr>
          <a:xfrm>
            <a:off x="1241280" y="3000240"/>
            <a:ext cx="9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从前有一个猎人，名叫海力布。他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热心帮助别人，每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打猎回来，总是把猎物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分给大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自己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只留下很少的一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大家都非常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敬爱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5" name="Picture 3" descr="C:\Users\lenovo\Desktop\ppt图片素材\QQ图片20190525124002.pngQQ图片20190525124002"/>
          <p:cNvPicPr/>
          <p:nvPr/>
        </p:nvPicPr>
        <p:blipFill>
          <a:blip r:embed="rId1"/>
          <a:stretch/>
        </p:blipFill>
        <p:spPr>
          <a:xfrm>
            <a:off x="10115640" y="1127160"/>
            <a:ext cx="1606320" cy="1266840"/>
          </a:xfrm>
          <a:prstGeom prst="rect">
            <a:avLst/>
          </a:prstGeom>
          <a:ln w="0">
            <a:noFill/>
          </a:ln>
        </p:spPr>
      </p:pic>
      <p:sp>
        <p:nvSpPr>
          <p:cNvPr id="2006" name="矩形 1"/>
          <p:cNvSpPr/>
          <p:nvPr/>
        </p:nvSpPr>
        <p:spPr>
          <a:xfrm>
            <a:off x="5077080" y="4702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04236"/>
                </a:solidFill>
                <a:latin typeface="微软雅黑"/>
                <a:ea typeface="微软雅黑"/>
              </a:rPr>
              <a:t>朗读句子比赛：注意红色字体的词语体会领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圆角矩形 10"/>
          <p:cNvSpPr/>
          <p:nvPr/>
        </p:nvSpPr>
        <p:spPr>
          <a:xfrm>
            <a:off x="888840" y="2971800"/>
            <a:ext cx="10833120" cy="30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矩形 4"/>
          <p:cNvSpPr/>
          <p:nvPr/>
        </p:nvSpPr>
        <p:spPr>
          <a:xfrm>
            <a:off x="2392560" y="121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读课文：互动讨论理解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5"/>
          <p:cNvSpPr/>
          <p:nvPr/>
        </p:nvSpPr>
        <p:spPr>
          <a:xfrm>
            <a:off x="901800" y="3259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“猎人海力布热心帮助别人，每次打猎回来，总是把猎物分给大家，自己只留下很少的一份”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矩形 1"/>
          <p:cNvSpPr/>
          <p:nvPr/>
        </p:nvSpPr>
        <p:spPr>
          <a:xfrm>
            <a:off x="5899680" y="4557600"/>
            <a:ext cx="110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我体会到：猎人海力布有一颗善良的心，他乐于助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受人爱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1" name="Picture 3" descr="C:\Users\lenovo\Desktop\ppt图片素材\QQ图片20190525124002.pngQQ图片20190525124002"/>
          <p:cNvPicPr/>
          <p:nvPr/>
        </p:nvPicPr>
        <p:blipFill>
          <a:blip r:embed="rId1"/>
          <a:stretch/>
        </p:blipFill>
        <p:spPr>
          <a:xfrm>
            <a:off x="10115640" y="1127160"/>
            <a:ext cx="16063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圆角矩形 10"/>
          <p:cNvSpPr/>
          <p:nvPr/>
        </p:nvSpPr>
        <p:spPr>
          <a:xfrm>
            <a:off x="860400" y="2770200"/>
            <a:ext cx="10528200" cy="2852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矩形 5"/>
          <p:cNvSpPr/>
          <p:nvPr/>
        </p:nvSpPr>
        <p:spPr>
          <a:xfrm>
            <a:off x="1228680" y="3041640"/>
            <a:ext cx="99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白蛇说：“真的，但是动物说什么话，你只能自己知道。如果对别人说了，您就会变成一块僵硬的石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4" name="图片 12" descr="C:\Users\lenovo\Desktop\ppt图片素材\18xxybgyw1srj2-zl-6-b_看图王.png18xxybgyw1srj2-zl-6-b_看图王"/>
          <p:cNvPicPr/>
          <p:nvPr/>
        </p:nvPicPr>
        <p:blipFill>
          <a:blip r:embed="rId1"/>
          <a:stretch/>
        </p:blipFill>
        <p:spPr>
          <a:xfrm>
            <a:off x="9650520" y="750960"/>
            <a:ext cx="1596960" cy="1798560"/>
          </a:xfrm>
          <a:prstGeom prst="rect">
            <a:avLst/>
          </a:prstGeom>
          <a:ln w="0">
            <a:noFill/>
          </a:ln>
        </p:spPr>
      </p:pic>
      <p:sp>
        <p:nvSpPr>
          <p:cNvPr id="2015" name="矩形 1"/>
          <p:cNvSpPr/>
          <p:nvPr/>
        </p:nvSpPr>
        <p:spPr>
          <a:xfrm>
            <a:off x="1300320" y="3995640"/>
            <a:ext cx="96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白蛇再三叮嘱：“敬爱的猎人，您要记住，动物说的什么话，千万不要对别人说。如果说了，您马上会变成石头，永远不能复活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矩形 2"/>
          <p:cNvSpPr/>
          <p:nvPr/>
        </p:nvSpPr>
        <p:spPr>
          <a:xfrm>
            <a:off x="2660760" y="3992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再三叮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矩形 7"/>
          <p:cNvSpPr/>
          <p:nvPr/>
        </p:nvSpPr>
        <p:spPr>
          <a:xfrm>
            <a:off x="7872480" y="4427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马上会变成石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圆角矩形 6"/>
          <p:cNvSpPr/>
          <p:nvPr/>
        </p:nvSpPr>
        <p:spPr>
          <a:xfrm>
            <a:off x="587520" y="695160"/>
            <a:ext cx="3246120" cy="59400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朗读比较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圆角矩形 10"/>
          <p:cNvSpPr/>
          <p:nvPr/>
        </p:nvSpPr>
        <p:spPr>
          <a:xfrm>
            <a:off x="458640" y="2230560"/>
            <a:ext cx="11322360" cy="357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2d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矩形 4"/>
          <p:cNvSpPr/>
          <p:nvPr/>
        </p:nvSpPr>
        <p:spPr>
          <a:xfrm>
            <a:off x="3603960" y="9856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比较句子：说出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图片 12" descr="C:\Users\lenovo\Desktop\ppt图片素材\12344.png12344"/>
          <p:cNvPicPr/>
          <p:nvPr/>
        </p:nvPicPr>
        <p:blipFill>
          <a:blip r:embed="rId1"/>
          <a:stretch/>
        </p:blipFill>
        <p:spPr>
          <a:xfrm>
            <a:off x="9888480" y="69516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2022" name="矩形 1"/>
          <p:cNvSpPr/>
          <p:nvPr/>
        </p:nvSpPr>
        <p:spPr>
          <a:xfrm>
            <a:off x="1058760" y="2465280"/>
            <a:ext cx="100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白蛇再三叮嘱：“敬爱的猎人，您要记住，动物说的什么话，千万不要对别人说。如果说了，您马上会变成石头，永远不能复活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矩形 2"/>
          <p:cNvSpPr/>
          <p:nvPr/>
        </p:nvSpPr>
        <p:spPr>
          <a:xfrm>
            <a:off x="3123000" y="246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再三叮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矩形 7"/>
          <p:cNvSpPr/>
          <p:nvPr/>
        </p:nvSpPr>
        <p:spPr>
          <a:xfrm>
            <a:off x="7947360" y="2895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马上会变成石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矩形 6"/>
          <p:cNvSpPr/>
          <p:nvPr/>
        </p:nvSpPr>
        <p:spPr>
          <a:xfrm>
            <a:off x="1785960" y="3755880"/>
            <a:ext cx="86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从“</a:t>
            </a:r>
            <a:r>
              <a:rPr b="1" lang="zh-CN" sz="2800" spc="-1" strike="noStrike">
                <a:solidFill>
                  <a:srgbClr val="e04236"/>
                </a:solidFill>
                <a:latin typeface="黑体"/>
                <a:ea typeface="黑体"/>
              </a:rPr>
              <a:t>再三叮嘱、马上会变成石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矩形 8"/>
          <p:cNvSpPr/>
          <p:nvPr/>
        </p:nvSpPr>
        <p:spPr>
          <a:xfrm>
            <a:off x="1058760" y="4338720"/>
            <a:ext cx="1012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我体会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白蛇的善良，同时也了解到民间故事的特点：宝石具有神奇的功能，民间故事中往往都有这样神奇的宝物，但是使用的时候也是有条件限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圆角矩形 10"/>
          <p:cNvSpPr/>
          <p:nvPr/>
        </p:nvSpPr>
        <p:spPr>
          <a:xfrm>
            <a:off x="858960" y="2230560"/>
            <a:ext cx="10601280" cy="357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矩形 4"/>
          <p:cNvSpPr/>
          <p:nvPr/>
        </p:nvSpPr>
        <p:spPr>
          <a:xfrm>
            <a:off x="2937240" y="887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句子：研讨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矩形 8"/>
          <p:cNvSpPr/>
          <p:nvPr/>
        </p:nvSpPr>
        <p:spPr>
          <a:xfrm>
            <a:off x="1182600" y="2724120"/>
            <a:ext cx="100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咱们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赶快飞到别处去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天晚上，这里的大山要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崩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地要被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洪水淹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不知道要淹死多少人呢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矩形 5"/>
          <p:cNvSpPr/>
          <p:nvPr/>
        </p:nvSpPr>
        <p:spPr>
          <a:xfrm>
            <a:off x="3352320" y="4187880"/>
            <a:ext cx="578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我从红色字体的词语体会到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山崩塌，大难来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地被淹，人们要逃离才能脱离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1" name="Picture 2" descr="C:\Users\lenovo\Desktop\ppt图片素材\QQ图片20190525124002.pngQQ图片20190525124002"/>
          <p:cNvPicPr/>
          <p:nvPr/>
        </p:nvPicPr>
        <p:blipFill>
          <a:blip r:embed="rId1"/>
          <a:stretch/>
        </p:blipFill>
        <p:spPr>
          <a:xfrm>
            <a:off x="9480600" y="666720"/>
            <a:ext cx="155268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圆角矩形 10"/>
          <p:cNvSpPr/>
          <p:nvPr/>
        </p:nvSpPr>
        <p:spPr>
          <a:xfrm>
            <a:off x="858960" y="2230560"/>
            <a:ext cx="10601280" cy="357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矩形 4"/>
          <p:cNvSpPr/>
          <p:nvPr/>
        </p:nvSpPr>
        <p:spPr>
          <a:xfrm>
            <a:off x="2997720" y="833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句子：研讨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矩形 8"/>
          <p:cNvSpPr/>
          <p:nvPr/>
        </p:nvSpPr>
        <p:spPr>
          <a:xfrm>
            <a:off x="1266840" y="2495520"/>
            <a:ext cx="97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急忙跑回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对大家说：“咱们赶快搬到别处去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个地方不能住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矩形 5"/>
          <p:cNvSpPr/>
          <p:nvPr/>
        </p:nvSpPr>
        <p:spPr>
          <a:xfrm>
            <a:off x="1362240" y="3684600"/>
            <a:ext cx="959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海力布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急得掉下眼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：“我可以发誓，我说的话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千真万确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相信我的话吧，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赶快搬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晚就来不及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6" name="Picture 2" descr="C:\Users\lenovo\Desktop\ppt图片素材\18ybgsxrj1s3-lx56-6-b_看图王.png18ybgsxrj1s3-lx56-6-b_看图王"/>
          <p:cNvPicPr/>
          <p:nvPr/>
        </p:nvPicPr>
        <p:blipFill>
          <a:blip r:embed="rId1"/>
          <a:stretch/>
        </p:blipFill>
        <p:spPr>
          <a:xfrm>
            <a:off x="9402840" y="404640"/>
            <a:ext cx="1195200" cy="1751040"/>
          </a:xfrm>
          <a:prstGeom prst="rect">
            <a:avLst/>
          </a:prstGeom>
          <a:ln w="0">
            <a:noFill/>
          </a:ln>
        </p:spPr>
      </p:pic>
      <p:sp>
        <p:nvSpPr>
          <p:cNvPr id="2037" name="矩形 9"/>
          <p:cNvSpPr/>
          <p:nvPr/>
        </p:nvSpPr>
        <p:spPr>
          <a:xfrm>
            <a:off x="2596320" y="48718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4236"/>
                </a:solidFill>
                <a:latin typeface="黑体"/>
                <a:ea typeface="黑体"/>
              </a:rPr>
              <a:t>你从红色字体的词语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圆角矩形 10"/>
          <p:cNvSpPr/>
          <p:nvPr/>
        </p:nvSpPr>
        <p:spPr>
          <a:xfrm>
            <a:off x="858960" y="2230560"/>
            <a:ext cx="10601280" cy="3359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a1c4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矩形 4"/>
          <p:cNvSpPr/>
          <p:nvPr/>
        </p:nvSpPr>
        <p:spPr>
          <a:xfrm>
            <a:off x="2842200" y="985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朗读句子：研讨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矩形 5"/>
          <p:cNvSpPr/>
          <p:nvPr/>
        </p:nvSpPr>
        <p:spPr>
          <a:xfrm>
            <a:off x="901800" y="2664000"/>
            <a:ext cx="1005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海力布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急得掉下眼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：“我可以发誓，我说的话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千真万确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相信我的话吧，</a:t>
            </a:r>
            <a:r>
              <a:rPr b="1" lang="zh-CN" sz="3200" spc="-1" strike="noStrike">
                <a:solidFill>
                  <a:srgbClr val="e04236"/>
                </a:solidFill>
                <a:latin typeface="楷体"/>
                <a:ea typeface="楷体"/>
              </a:rPr>
              <a:t>赶快搬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晚就来不及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1" name="Picture 2" descr="C:\Users\lenovo\Desktop\ppt图片素材\666666.png666666"/>
          <p:cNvPicPr/>
          <p:nvPr/>
        </p:nvPicPr>
        <p:blipFill>
          <a:blip r:embed="rId1"/>
          <a:stretch/>
        </p:blipFill>
        <p:spPr>
          <a:xfrm>
            <a:off x="9315360" y="380880"/>
            <a:ext cx="1762200" cy="1762200"/>
          </a:xfrm>
          <a:prstGeom prst="rect">
            <a:avLst/>
          </a:prstGeom>
          <a:ln w="0">
            <a:noFill/>
          </a:ln>
        </p:spPr>
      </p:pic>
      <p:sp>
        <p:nvSpPr>
          <p:cNvPr id="2042" name="矩形 9"/>
          <p:cNvSpPr/>
          <p:nvPr/>
        </p:nvSpPr>
        <p:spPr>
          <a:xfrm>
            <a:off x="1090440" y="3782880"/>
            <a:ext cx="99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e04236"/>
                </a:solidFill>
                <a:latin typeface="楷体"/>
                <a:ea typeface="楷体"/>
              </a:rPr>
              <a:t>我从红色字体的词语体会到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猎人海力布宁愿变成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要告诉乡亲们的事实，叫他（她）们搬走，很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矩形 1"/>
          <p:cNvSpPr/>
          <p:nvPr/>
        </p:nvSpPr>
        <p:spPr>
          <a:xfrm>
            <a:off x="3457800" y="4765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千真万确：情况属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矩形 2"/>
          <p:cNvSpPr/>
          <p:nvPr/>
        </p:nvSpPr>
        <p:spPr>
          <a:xfrm>
            <a:off x="7805160" y="4765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造句：这个消息千真万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06:44:00Z</dcterms:created>
  <dc:creator/>
  <dc:description/>
  <dc:language>en-US</dc:language>
  <cp:lastModifiedBy>万润仪器贸易公司</cp:lastModifiedBy>
  <dcterms:modified xsi:type="dcterms:W3CDTF">2020-08-24T06:32:09Z</dcterms:modified>
  <cp:revision>2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